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FB2-F7FF-4305-AE09-4554BC9C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749-DAC1-4344-AFA2-ACF7DB4B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937-17DC-46E8-93FD-80397133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763-9E28-4D7C-8A68-BC8C7F28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EB01-A14C-47E2-B1E9-CDC08062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822C-73F6-4F44-9097-35956E2A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F9C4-C76D-4DC2-A03D-BDC0D1DD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C2B9-D119-4891-A0BE-3B16DEB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8E0C-0769-46F4-8629-FD6A4911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3551-A747-45D0-84B7-C3BF15A8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B22F-9A62-404A-BDE1-A0A311FB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084-48D3-427D-B91F-8AD0D8BA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ADE1-8FFE-47C4-8DA9-E0FA7080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A0B7-7A4D-4641-8756-DF50C4E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CB3A-D241-4D7F-A88E-31DFBA5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CE29-2564-4450-AF9F-4D8E9C0F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F515-4A41-4986-AE2E-CE4439DE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54DB-62D3-450F-B4F4-9893C858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C955-35AF-4DF2-8F8C-E6AA0CA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C558-553C-4E6B-AB8B-B9715869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776A-3309-45EA-9003-E79B0441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8531C-0DAB-4EED-94D0-33A3EE5C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9B1-66AD-4967-ACF6-44E056FA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C48A-C065-467D-9642-ADB2F6E9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01A6-CFDE-42E5-9896-4356FB0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B8F2-BFC6-4BCD-BC58-AFD1A81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4F71-99A6-4BCF-B3D6-866CA08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6527-03C2-4F5E-8DC6-996B92EA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6F8D-3C19-43D8-A5DC-7491535A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5B30-30E7-4B89-AB65-6002382F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B3DF-6C6F-440D-BC9A-C6107B5A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181A-8032-4C77-BB0D-D7A4C7F2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9285D-B7DC-4ACD-9038-CD203629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D58-2967-4FA4-9F9E-DC7C4509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D1DD-3344-410E-B86D-5853AE8B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ADAF-1804-4ADC-8605-84226C2F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375C4-1213-4AF2-8724-0F363ADF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3DE6-4D41-4991-AC4E-DFDB6663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C238-A215-4F1E-AD02-937D9D0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479F-9EF3-44AA-980D-9772EF2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D90F-50C0-4EF5-B32B-50305955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4F8A-E787-4F03-8170-78FD872B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01EE6-96F5-4C15-A33C-78ECF050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B7D4A-219F-4A5F-99AD-BC77D316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C31-B3B6-4543-87F4-357ECC9D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84FF4-5D5F-4A3F-965C-6BD474EA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8D95-A50D-4AFC-B9DB-4D37D70B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0E7B2-9833-4E63-BC93-099C2CC2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A7BC-9A6D-4C84-B418-C87AD44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219AE-6B61-4493-B6A2-BC2AFC11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FBA64-00AA-4869-B633-2529E99A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DECD-B38F-416B-AF7F-DBF8847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0D81-5641-4867-A045-C831003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38F6-9987-4A33-A357-7A7381BA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A83E-5AB6-4D9B-BF27-2F185823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3CB-4824-4CFA-A727-36AE6910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62B9-1342-4C1D-A583-FFB6E65F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8B5C-F5F4-4196-B40B-C37F4104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95DF9-C2D8-4A93-B15F-F3D2E4E4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64CC1-AB46-4302-BF23-D4CC768E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F7AD-AAB2-4069-991A-B518D296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39813-4C1E-4F99-A001-C217CFEE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44F7D-BB30-4C15-8009-8075DDE8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BB357-88CA-46AA-8183-0D97F77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0F111-C90B-40C9-9BED-038B35C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BF9A-99D0-46FA-A9E3-36A330AD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BB8-65F9-477F-AC06-D823C1F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37B65-906C-4907-B487-EBD229E2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6F49A-34D7-4783-8968-5F3E7CD9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3014-4747-4532-B392-045C156B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BBB9E-024C-4E56-B476-01DF47DD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F61C2-7EFD-4BCC-82DF-48D45E85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867C-2DC0-4FCC-AC0C-2EC14293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BAAAE-A43F-4B93-B6EF-3AEA6CE2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4A383-3550-4974-AB9E-BA9A42B3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C31CF-918C-4E8A-9835-29EEFB4D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C9BD0-E150-46A8-83D5-560ECF6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7A7-70D6-4999-B561-C734BCCE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53B5B-4255-4831-9294-A91B68BC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3ADC-0E51-4C5D-BC7F-C85F107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2E386-8AD1-4551-B7EE-81ADED2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9D0E-1B0E-40F8-81DD-855F44C3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AB483-AE00-419A-887F-D7D61CA0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BB0-623B-4CD5-A2D3-5F73940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0057-4F83-4E36-BFCA-B19947EA5E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F716-F628-4FFA-8697-A87185DFB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19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6" name="Рамка 19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0240" y="30240"/>
              <a:ext cx="9083520" cy="50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Рамка 19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45" name="Рамка 19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0240" y="30240"/>
              <a:ext cx="9083520" cy="50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14" descr="https://img-fotki.yandex.ru/get/6101/28257045.916/0_8198c_d8a61c6c_S"/>
          <p:cNvPicPr/>
          <p:nvPr/>
        </p:nvPicPr>
        <p:blipFill>
          <a:blip r:embed="rId4"/>
          <a:stretch/>
        </p:blipFill>
        <p:spPr>
          <a:xfrm rot="3065400">
            <a:off x="1501560" y="34304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48" name="Капля 8"/>
          <p:cNvSpPr/>
          <p:nvPr/>
        </p:nvSpPr>
        <p:spPr>
          <a:xfrm flipH="1" rot="16200000">
            <a:off x="2143080" y="-1857240"/>
            <a:ext cx="5072040" cy="8786880"/>
          </a:xfrm>
          <a:prstGeom prst="pie">
            <a:avLst/>
          </a:prstGeom>
          <a:solidFill>
            <a:srgbClr val="fcd5b5">
              <a:alpha val="45000"/>
            </a:srgbClr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https://img3.akspic.ru/preview/74225-lepestok-babochka-tsvetok-vektornaya_grafika-grafika-350x263.jpg"/>
          <p:cNvPicPr/>
          <p:nvPr/>
        </p:nvPicPr>
        <p:blipFill>
          <a:blip r:embed="rId5"/>
          <a:stretch/>
        </p:blipFill>
        <p:spPr>
          <a:xfrm rot="1215000">
            <a:off x="84240" y="232920"/>
            <a:ext cx="842760" cy="63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https://img3.akspic.ru/preview/74225-lepestok-babochka-tsvetok-vektornaya_grafika-grafika-350x263.jpg"/>
          <p:cNvPicPr/>
          <p:nvPr/>
        </p:nvPicPr>
        <p:blipFill>
          <a:blip r:embed="rId6"/>
          <a:stretch/>
        </p:blipFill>
        <p:spPr>
          <a:xfrm>
            <a:off x="214200" y="785880"/>
            <a:ext cx="781200" cy="58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i.pinimg.com/736x/66/b2/40/66b240438a83cb535766cc95e4f967d9--butterflies.jpg"/>
          <p:cNvPicPr/>
          <p:nvPr/>
        </p:nvPicPr>
        <p:blipFill>
          <a:blip r:embed="rId7"/>
          <a:stretch/>
        </p:blipFill>
        <p:spPr>
          <a:xfrm rot="20508000">
            <a:off x="7640640" y="444240"/>
            <a:ext cx="6429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s://i.pinimg.com/236x/a6/3d/85/a63d85c2cf8aae44aab758a7008eb2ce--gif-butterfly.jpg"/>
          <p:cNvPicPr/>
          <p:nvPr/>
        </p:nvPicPr>
        <p:blipFill>
          <a:blip r:embed="rId8"/>
          <a:stretch/>
        </p:blipFill>
        <p:spPr>
          <a:xfrm>
            <a:off x="8286840" y="1000080"/>
            <a:ext cx="59220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s://pm1.narvii.com/6751/5414f17078406620eb13dea57adaa3bbcf2f332bv2_00.jpg"/>
          <p:cNvPicPr/>
          <p:nvPr/>
        </p:nvPicPr>
        <p:blipFill>
          <a:blip r:embed="rId9"/>
          <a:stretch/>
        </p:blipFill>
        <p:spPr>
          <a:xfrm rot="2535000">
            <a:off x="7567560" y="3240000"/>
            <a:ext cx="1352520" cy="220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https://img3.akspic.ru/preview/74225-lepestok-babochka-tsvetok-vektornaya_grafika-grafika-350x263.jpg"/>
          <p:cNvPicPr/>
          <p:nvPr/>
        </p:nvPicPr>
        <p:blipFill>
          <a:blip r:embed="rId10"/>
          <a:stretch/>
        </p:blipFill>
        <p:spPr>
          <a:xfrm rot="21061800">
            <a:off x="829800" y="204840"/>
            <a:ext cx="844560" cy="633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E4C7-C85E-4F8C-AE47-5C8C36BB7FC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5642-4F2E-4B00-8AEF-87BC4555D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Рамка 19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97" name="Рамка 19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0240" y="30240"/>
              <a:ext cx="9083520" cy="50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6" descr="https://www.artsfon.com/mini/201609/91502.jpg"/>
          <p:cNvPicPr/>
          <p:nvPr/>
        </p:nvPicPr>
        <p:blipFill>
          <a:blip r:embed="rId4"/>
          <a:stretch/>
        </p:blipFill>
        <p:spPr>
          <a:xfrm flipH="1" rot="4196400">
            <a:off x="-33120" y="4192560"/>
            <a:ext cx="1298520" cy="838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CC86-153C-4F78-AFE8-79FF56E107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A43-2F23-41E7-A427-786D60274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Рамка 19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142" name="Рамка 19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0240" y="30240"/>
              <a:ext cx="9083520" cy="50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2" descr="https://dedlaina.net/wp-content/uploads/2018/02/image1-138-345x230.jpeg"/>
          <p:cNvPicPr/>
          <p:nvPr/>
        </p:nvPicPr>
        <p:blipFill>
          <a:blip r:embed="rId4"/>
          <a:stretch/>
        </p:blipFill>
        <p:spPr>
          <a:xfrm rot="16878600">
            <a:off x="7761240" y="3814200"/>
            <a:ext cx="1495440" cy="997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E20B-D30C-4217-BE1C-FEC6901C54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DA9C-0DA7-4DFD-8ED8-685FEF872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Рамка 19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187" name="Рамка 19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0240" y="30240"/>
              <a:ext cx="9083520" cy="50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4" descr="https://www.stampendgo.bg/stamps/animals/thumbs/butterflyes-colourprint-sheaf--beautiful-0173.png"/>
          <p:cNvPicPr/>
          <p:nvPr/>
        </p:nvPicPr>
        <p:blipFill>
          <a:blip r:embed="rId4"/>
          <a:stretch/>
        </p:blipFill>
        <p:spPr>
          <a:xfrm rot="17389800">
            <a:off x="7755480" y="-197640"/>
            <a:ext cx="1150920" cy="1806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52E9-7FF8-4E45-A86A-C7447F5B94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E81D-E201-4A3C-AB4B-359F7CD31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Рамка 19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232" name="Рамка 19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0240" y="30240"/>
              <a:ext cx="9083520" cy="50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Picture 8" descr="https://3.bp.blogspot.com/-ep_dAPLc_eU/WN1IqeFKLaI/AAAAAAAAAGI/Qd4L3zt1i1MOCdwHWMMX_W9cee8aM7z1wCLcB/s1600/3.jpg"/>
          <p:cNvPicPr/>
          <p:nvPr/>
        </p:nvPicPr>
        <p:blipFill>
          <a:blip r:embed="rId4">
            <a:lum contrast="30000"/>
          </a:blip>
          <a:srcRect l="4884" t="54814" r="41437" b="9726"/>
          <a:stretch/>
        </p:blipFill>
        <p:spPr>
          <a:xfrm>
            <a:off x="7643880" y="350028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BA61-6613-4AB5-BDAC-CCEB8DFF99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07EE-03C4-4F3A-BDEE-A9D753192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Рамка 19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277" name="Рамка 19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0240" y="30240"/>
              <a:ext cx="9083520" cy="50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14" descr="https://img1.picmix.com/output/stamp/thumb/9/5/6/3/1143659_8bd68.png"/>
          <p:cNvPicPr/>
          <p:nvPr/>
        </p:nvPicPr>
        <p:blipFill>
          <a:blip r:embed="rId4"/>
          <a:stretch/>
        </p:blipFill>
        <p:spPr>
          <a:xfrm>
            <a:off x="7434360" y="3705120"/>
            <a:ext cx="1709640" cy="1366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https://img1.picmix.com/output/stamp/thumb/9/5/6/3/1143659_8bd68.png"/>
          <p:cNvPicPr/>
          <p:nvPr/>
        </p:nvPicPr>
        <p:blipFill>
          <a:blip r:embed="rId5"/>
          <a:stretch/>
        </p:blipFill>
        <p:spPr>
          <a:xfrm>
            <a:off x="7331040" y="57240"/>
            <a:ext cx="1913040" cy="1492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https://img1.picmix.com/output/stamp/thumb/9/5/6/3/1143659_8bd68.png"/>
          <p:cNvPicPr/>
          <p:nvPr/>
        </p:nvPicPr>
        <p:blipFill>
          <a:blip r:embed="rId6"/>
          <a:stretch/>
        </p:blipFill>
        <p:spPr>
          <a:xfrm>
            <a:off x="-142920" y="0"/>
            <a:ext cx="1709640" cy="1366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https://img1.picmix.com/output/stamp/thumb/9/5/6/3/1143659_8bd68.png"/>
          <p:cNvPicPr/>
          <p:nvPr/>
        </p:nvPicPr>
        <p:blipFill>
          <a:blip r:embed="rId7"/>
          <a:stretch/>
        </p:blipFill>
        <p:spPr>
          <a:xfrm>
            <a:off x="-142920" y="3705120"/>
            <a:ext cx="1862280" cy="13669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5"/>
          <p:cNvSpPr/>
          <p:nvPr/>
        </p:nvSpPr>
        <p:spPr>
          <a:xfrm>
            <a:off x="285840" y="1460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A3B8-5A28-4475-82D4-7E9566DA7A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A38D-44DD-4656-AC8D-D94746F90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2.bp.blogspot.com/-zPmIfDL7OUc/Vx5YSQpjOpI/AAAAAAAAAaw/7QwjJZX5e0o-QAEbZhvtvw1Otgu1SDflgCLcB/s320/b2.jpg" TargetMode="External"/><Relationship Id="rId2" Type="http://schemas.openxmlformats.org/officeDocument/2006/relationships/hyperlink" Target="https://i.pinimg.com/236x/a6/3d/85/a63d85c2cf8aae44aab758a7008eb2ce--gif-butterfly.jpg" TargetMode="External"/><Relationship Id="rId3" Type="http://schemas.openxmlformats.org/officeDocument/2006/relationships/hyperlink" Target="https://img-fotki.yandex.ru/get/5604/valenta-mog.138/0_6dde4_5042aceb_S.png" TargetMode="External"/><Relationship Id="rId4" Type="http://schemas.openxmlformats.org/officeDocument/2006/relationships/hyperlink" Target="https://img-fotki.yandex.ru/get/6101/28257045.916/0_8198c_d8a61c6c_S" TargetMode="External"/><Relationship Id="rId5" Type="http://schemas.openxmlformats.org/officeDocument/2006/relationships/hyperlink" Target="https://img3.akspic.ru/preview/74225-lepestok-babochka-tsvetok-vektornaya_grafika-grafika-350x263.jpg" TargetMode="External"/><Relationship Id="rId6" Type="http://schemas.openxmlformats.org/officeDocument/2006/relationships/hyperlink" Target="https://pm1.narvii.com/6751/5414f17078406620eb13dea57adaa3bbcf2f332bv2_00.jpg" TargetMode="External"/><Relationship Id="rId7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 rot="21051000">
            <a:off x="609480" y="1823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Лето! Ах ,лето!!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5373000" y="2786040"/>
            <a:ext cx="280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Пасечник Е.А., учитель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МБОУ «СОШ№6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г. Братска Иркут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4286160" y="45720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20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"/>
          <p:cNvSpPr/>
          <p:nvPr/>
        </p:nvSpPr>
        <p:spPr>
          <a:xfrm>
            <a:off x="4857840" y="428760"/>
            <a:ext cx="3929040" cy="4429080"/>
          </a:xfrm>
          <a:prstGeom prst="rect">
            <a:avLst/>
          </a:prstGeom>
          <a:solidFill>
            <a:srgbClr val="fdeada">
              <a:alpha val="67000"/>
            </a:srgbClr>
          </a:solidFill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Нижний колонтитул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4"/>
          <p:cNvSpPr/>
          <p:nvPr/>
        </p:nvSpPr>
        <p:spPr>
          <a:xfrm>
            <a:off x="571680" y="500040"/>
            <a:ext cx="3929040" cy="4429080"/>
          </a:xfrm>
          <a:prstGeom prst="rect">
            <a:avLst/>
          </a:prstGeom>
          <a:solidFill>
            <a:srgbClr val="fdeada">
              <a:alpha val="67000"/>
            </a:srgbClr>
          </a:solidFill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2160" y="21798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98989"/>
              </a:solidFill>
              <a:latin typeface="Times New Roman"/>
            </a:endParaRPr>
          </a:p>
        </p:txBody>
      </p:sp>
      <p:sp>
        <p:nvSpPr>
          <p:cNvPr id="337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Monotype Corsiva"/>
              </a:rPr>
              <a:t>Источники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500040" y="896760"/>
            <a:ext cx="8501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s://2.bp.blogspot.com/-zPmIfDL7OUc/Vx5YSQpjOpI/AAAAAAAAAaw/7QwjJZX5e0o-QAEbZhvtvw1Otgu1SDflgCLcB/s320/b2.jpg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s://i.pinimg.com/236x/a6/3d/85/a63d85c2cf8aae44aab758a7008eb2ce--gif-butterfl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https://img-fotki.yandex.ru/get/5604/valenta-mog.138/0_6dde4_5042aceb_S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4"/>
              </a:rPr>
              <a:t>https://img-fotki.yandex.ru/get/6101/28257045.916/0_8198c_d8a61c6c_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https://img3.akspic.ru/preview/74225-lepestok-babochka-tsvetok-vektornaya_grafika-grafika-350x26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6"/>
              </a:rPr>
              <a:t>https://pm1.narvii.com/6751/5414f17078406620eb13dea57adaa3bbcf2f332bv2_0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s://dedlaina.net/wp-content/uploads/2018/02/image1-138-345x230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s://www.stampendgo.bg/stamps/animals/thumbs/butterflyes-colourprint-sheaf--beautiful-0173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s://www.artsfon.com/mini/201609/91502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s://img1.picmix.com/output/stamp/thumb/9/5/6/3/1143659_8bd6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4:48:49Z</dcterms:created>
  <dc:creator>12345</dc:creator>
  <dc:description/>
  <dc:language>en-US</dc:language>
  <cp:lastModifiedBy>12345</cp:lastModifiedBy>
  <dcterms:modified xsi:type="dcterms:W3CDTF">2019-02-10T13:06:47Z</dcterms:modified>
  <cp:revision>23</cp:revision>
  <dc:subject/>
  <dc:title>Слайд 1</dc:title>
</cp:coreProperties>
</file>